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anna Metzler" initials="J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0-10-18T16:00:03.495000000" idx="1">
    <p:pos x="5019" y="1412"/>
    <p:text>I feel like there is a better open-ended question...this feels about accusatory...but it could just be m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9DD-3F05-4B71-B807-067226E1EC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DF67-4755-4DAD-832E-3A0FB2B99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maller children may be best examined on mother‘s lap. Give older children a choice. Avoid knee-chest position, as assailants often use this!! (This picture is also found in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Handout 15.2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the Participant Packe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2EC-2CF0-4237-8F10-6DD0CF61F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esh or healed scars are indicative of recent or repeat trau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ver perform a digital examination to assess the dilatation of the vaginal orifice! Never use a speculum in a pre-pubertal girl - the examination is extremely painful and can cause serious inju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555-505E-4393-B11E-358C571E0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ys can sit, lie on their back or stand for the examination of the genital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examine the anus, girls or boys can lie on their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ver perform a digital examination to assess the dilatation of the anal orif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021B-F914-4E08-94C3-AA39DF093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m “Evaluating the Child for Sexual Abuse,” Lahoti, Sheela et al.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American Family Physician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Vol. 63, No.5 March 1, 2001. Tabl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077-0E32-4C18-B505-376C1E61F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xual abuse of children is often repeated but is usually episodic (occurring occasionally) rather than chronic (occurring regularly), therefore possibly eligible for P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from the WHO/ILO PEP guide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1D0D-ECC0-4D0B-B20C-D00E007CA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venting child maltreatment: a guide to taking action and generating evidence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HO and International Society for the Prevention of Child Abuse and Neglect © WHO, 2006. Page 5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ction Sheet 8.3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ASC Guidelines on Mental Health and Psychosocial Support in Emergency Setting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© Inter-Agency Standing Committee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D0F1-6ACB-479D-BD58-B09865C57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scuss with participants that if the child does not want the accompanying adult present during the interview/ examination, the child still needs a guardian during the consultation. A trained social worker could be an acceptable guardi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054-96DC-4E31-B50A-1391DAF30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eventing child maltreatment: a guide to taking action and generating evidence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HO and International Society for the Prevention of Child Abuse and Neglect © WHO, 2006. Page 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CED-6FDB-4AF4-9795-68E3BF8F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cause the survivor is a child, you may want to have the child come back before 2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As per WHO/ILO guide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28EC-349E-464A-AFE7-11F814099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most settings, antibody testing can only be done on children &gt;18 months old, due to the interference of maternal antibodies. A PCR test can be used to diagnose children &lt;18 months old, but is still not widely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EF2-5211-4CF8-969E-3A4D84A15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rom Botash, Ann, “Child Abuse Evaluation &amp; Treatment for Medical Providers.” © www.ChildAbuseMD.com, SUNY Upstate Medical University. Syracuse, NY. http://childabusemd.com/treatment/treatment-abuse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EBC0-651D-4861-B8A4-ACD96C672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8D5-28B6-406F-A557-8E9DB3666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tern of sexual abuse of children is different from that of adults. For example there is often repeated abuse. To get a clearer picture of what has happened, try to get information on the home situation (is it a safe place to return to?), how the abuse was discovered, whether there has been a history of any bleeding, whether the child has had difficulty walking. Are there any siblings or other children in the household who may be at ris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k open-ended questions to get information about the incident (and yes-no only for clarific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Adapted from the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UNHCR-UNFPA Clinical Management of Rape Survivors Trai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954-9123-4FE7-878C-9948CF16F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ercion, trickery and force are often techniques used by the perpetrator, and using them could further harm the child.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a child cannot be examined due to agitation AND the examination is essential for medical treatment AND pain medication does not calm them down, REFER the child to a specialist. Never sedate a child – this can only be done at a referral leve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From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ction Sheet 8.3 IASC Guidelines for gender-based-violence interventions in humanitarian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A4D4-79C8-4978-8F67-952A5E50F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DEF-1AF0-4BDB-B164-63622D59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5B0-4740-468C-A680-5712768C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ABFB7-FF9D-45BB-908B-2E32B297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A1614-74B1-4C1D-8EC4-CB5368E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56E5F-ECC3-46B3-95D2-BD3E83A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E18BE-69FC-47CA-9181-48787AB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18C49-AD39-4E97-B2CE-E4E4B2F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5B74A-56AD-4885-8956-C41DC89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4236-1677-4CA6-A31A-82A72AA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DD17-C797-4938-8FDB-6A59268C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732C3-385D-4CD0-9F71-8DABF458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996FD-B663-4E2D-BA3A-14E10978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2D4-A54F-4F62-B685-D154AA92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8263B-D2BB-411B-A4B6-25FC874D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B2D6-36FD-450C-82FD-DF5D6FD8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5EF0-065E-46C4-ABEF-D692E30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9D913-3407-494D-9D98-1E887324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3650-E5AC-40C9-9C40-7C9191CE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BDF4A-2D1B-4916-A8C5-2A000988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B4197-ADAE-4835-A92C-465E846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3F28B-1361-460E-AA7A-299029A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F7BB1-31C1-45F5-9894-D09A927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CA3AC-A0C4-4227-A4B4-954D0349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46D-81FA-4525-931B-F1416B96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6390B-DD16-495E-8F49-29A05CCA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051B5-5193-469F-8A4D-6B7DB183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0E69D-CC93-4379-AA63-D0BE6E9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BF465-38C9-44E5-AC92-6F9AEDA2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8A72B-2B9C-4EA1-BCA1-019A57E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2CA5F-9168-44AB-A04F-A668449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C4CB9-5F55-4FE0-B742-55B4C30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355A9-6536-4166-A2EB-A05C944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E526-57EE-4875-B996-B80D408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71D12-5662-4EE8-A268-A70C9F3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B53DE-48EB-4F46-AF49-2808C36B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0D039-5E46-48E8-A561-A3C512C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DA079-9202-4B8B-8694-8F68857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A31C3-578D-46A6-BC09-7D73619F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D44D-F230-40D8-B6EB-85C4DFD2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8BB51-152E-40BF-890C-DCA05BF0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AC10D-B77C-4F69-8AE8-9E1EA47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66359-C8CD-4829-ADB2-FD73B157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8C44B-965E-4457-B49D-3D6896E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99F08-FA4E-4EF3-8531-79335F5E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45D50-2647-4FAF-AD39-EEEDBD0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FD8CD-04FC-49E3-90DB-755EB43D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96BB3-84EF-4921-BC82-840A89E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DAC33-E44F-43D9-9DB4-2BB8FAC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661B4-2E3D-4BBC-B316-355AA5D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DB787-9F48-4E2B-9DC1-6F515B10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E7295-C1E8-4401-B906-76B36B95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F7BCF-5AB8-4FBD-8DB4-DEBB809C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30C80-1743-441B-8844-F14DE92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328D5-21AB-4FC9-913B-A3EC6AB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E1643-7D33-4DD7-93D0-6BFE447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E6A22-F97E-49B0-8050-0E91A7B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09A3-179D-439B-B16B-F19847E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CCA65-E742-4CB5-8336-C4993FF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B2DE9-3CBA-4715-ACFC-EF4CF150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16AAA-B455-4CA8-8632-0E98427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6A00F-E5BF-41B6-8CED-7DE7A968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1142A-4464-455D-9692-83AB241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368E1-EA7C-4CA1-A679-75977FF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AE92C-3F6B-4F4D-BB31-051E676F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CAEFD-B739-4055-A082-EC3862ED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F9933-E1E4-49AA-AF39-501259C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FDF4E-509E-4803-A4D6-9F0AA1D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EA8F7-5B78-479E-ABF5-DA0DED86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D55BF-FFBF-47F9-8E90-2EA5B07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F98D1-E3B1-4DF2-9CB5-4A8AB36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942AA-9BAD-4995-B420-DA88679B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FCCD3-4A3E-44BF-9406-508C91C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208A7-FD53-450A-8E99-E57B23D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12E75-0A1F-45B7-9E5D-9CD58B3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397EE-3EA0-4C11-8FBA-5EB6036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D6F56-E0CB-4AE3-9167-7130F3F5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18814-4899-4202-ADCA-9254479A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C63B0-6F9E-4303-8C43-B746972D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84EDE-4B80-470D-BF3C-CAA83A4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AD8DB-2E60-451D-9F52-8EBE314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97FD4-8E11-4522-8BCD-A33943D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2B7B3-515C-46E1-998F-EAE13FB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D2F14-A5DE-4DD5-80AB-EC1AC39B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AD653-43E9-42AB-BD83-D47119A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29A63-00B3-4C83-AD81-87DB4CB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5B6AF-CAA2-482D-9C71-2FE20C8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FBF9F-F149-4D21-B468-2CC50C7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109A9-45E5-4EBF-811C-CA4C624D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22E14-B3F3-4DAE-AE6F-9830B154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B1AD-3DF3-4A7C-8107-356EB15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4D3FE-D00B-4D71-BCF6-2757CFE5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CF238-4623-4A71-A35E-5CD16002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C2C2A-D25A-4477-9E8C-1E0AF555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06E75-93A4-47A9-B56E-F4E521A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FD905-F1F2-4BF3-ABD4-C42AF52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753DF-249D-44E4-AF8B-ACCF105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F0CAE-C362-496D-A5AB-0BA2EE94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C2148-B5C8-46E0-B4D7-24BB52E0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4DBD6-4444-4FBD-8CD2-375B7B8D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9B697-C112-4C47-8AE6-379A3F9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FB726-4239-4C39-BBA9-E48A4F7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CA187-4FCB-494B-A5BC-ED2285F9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5FF8E-53DD-4996-A61F-0AEEB80E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6E0AA-B406-4E25-9983-7D7089B4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906A2-2983-4616-BE09-6A1CECC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3B5CA-5535-48A1-B6BF-3A3616EF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D3180-2FE1-4F13-9C9D-AB15FDE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E52F7-F9AE-4875-940A-C6AF517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AC8AC-AB70-4661-9B2F-8F44DA5B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7F4FE-67AB-4B2F-8C40-77778A4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90BB3-AAD7-4AC8-9BA2-DB8F103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470-2CDC-4CB9-83A6-C15FBA9C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E1DF0-EE49-4FEF-81DC-039C27A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251CB-8332-4E23-95FD-EAC5B381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EA15A-E1B9-4D93-86B0-10A2B8A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F6B17-AC1D-40DA-A43B-B4361B5F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AD9D9-9636-43AB-B03E-E9E4E75B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02FE8-033B-4DB6-B4F5-B6782943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50126-4D92-4A17-8F2F-5FD855A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3278D-9C28-4BCF-8C88-34017EB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805BE-397A-4EB7-805E-0D8046D2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19B9-7791-4A64-818E-DE7C2859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CB9D-7C88-456F-B646-5A9DDEA6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5FF5-8601-49ED-851C-3CDA6FC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CF69-0FD3-44D6-B378-ADAD3D0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EC6C-89C2-4220-AF85-058399A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F581-5C22-4A77-835D-7D28A06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4ED-28C3-43F2-B17B-FDCA8459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7C13-1E45-4229-8DD7-8219492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A944-718D-44A7-AD49-C6FB242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EC3F-19C1-43A8-8146-F95FEC2D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DB3D-2231-41BD-BD2B-3C649815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505F-6952-4723-8E91-12A39679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61C3-9E15-4538-BE87-614EE81D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0092-1197-4B72-A0E3-3C69503B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4A90-EEE6-4C65-AD83-28C5F2BA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71FD-3192-4F6F-BAAE-68E0AEE7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F1E1-993E-4A66-A5A8-4AF7900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097-732F-417E-8F1A-58310F5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8E79-BC34-4215-9476-B8D4BBF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DA54-16FD-4F0C-96E5-96272B48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6FC9-1288-4FC8-BC78-2B3F4E2E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8CA2-C5AF-4B63-B13E-D64A445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2FC5-FCC8-402B-A0FE-FBEC0AF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6620-39BA-4B74-AB08-C8BA997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A5F5-36C2-4C72-AFD1-CA15DF7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1BA9-CFA5-4143-B899-865A0D2F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28B9-0CB1-4242-8D64-58491046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919E-5934-4909-9EF5-D37F1CB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56B-73F1-4A75-ABD9-12D24C48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034E-D5D3-44E6-BF6D-F4D46AC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BBBC-AD0F-4F14-9B65-3F91AB31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9518-D083-45A5-9860-9D7062B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416D-18C8-4CBB-BB8B-50E25DEB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363C4-6F1F-46F5-834F-ED18B6EE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3593-4C38-4B0B-B531-F3A7D06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01C1-663B-40DB-BF36-C53C8E1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8E95-BA2E-473D-B939-529B397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A8ABF-7592-49B1-970A-8C1885C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C358-0F32-40F2-B99E-AE0498A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264-E3E6-48C2-8EF9-AFDE9B3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2F2B-F1E2-4F38-9D2E-C557CEED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45F0A-1ECB-4719-B77A-19B6622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B7D0-5D70-4041-AC33-D598F50D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2079A-85EE-4F20-8203-6164420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9223-792E-4F56-96F5-D85A7C6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B7769-9279-4DEC-90D3-656627B4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9394-E1C0-4768-8553-A3A61FF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8846-21F3-42CF-84D8-729FB5F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19B1-9F5F-4AC8-9AA6-84ABA18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D825B-359A-4E0E-8FAF-CC6FE8D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A1E-E103-4328-97B2-4178952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D0B2-E911-46D8-955D-66B55AE9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B12E-4CF7-4DD2-BF3F-151E09E0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1B95-797C-4500-BA2E-D3F6C54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BF26-4E49-4C99-81E8-26255F0E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8CF6-B866-4781-A2A5-9B5C737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BEBA-67BF-4CE0-A08E-257078B2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4DA5-4440-4396-8578-01122E7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51C0-1F54-4704-B7B4-6ED2FD5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4A3B-9B10-41ED-B72F-9DB0C0B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9DC0-6A22-49DB-A475-A34F7E0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123-7061-4F06-86E7-D9C6067E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4410C-C773-4405-9EF8-7041D77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5C8C-EA30-4D1D-944B-DF69F57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4495-DB32-4B41-BBB9-A6EF229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6110-B7FC-4A94-AD54-AF437085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50A9-7C94-48F7-B256-440E2885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323B-754A-4DA0-AAB3-0D80523F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3F9C-15D3-4491-9BE1-162876C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0FC0-DA45-4EF2-8589-F1EC8293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99C7E-4D0D-40B4-ABE1-08168293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7B65-8880-4CCE-A406-40A3B7DE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D7A-A999-45C3-8B5E-0AF1690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38A6-6B29-4B97-97A0-A27F1C52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A952-3620-4697-BC71-CEE8D566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3BD1-A320-43BA-B579-33AB4039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EF908-253F-4C95-B10E-39FAB2D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9BE1-D82B-440E-8310-7561CF80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B239D-0C96-4A16-8F67-322A403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C5CA3-7AE4-4CB4-99C6-99538B4F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E4C86-D250-4E92-A35F-76BE02E1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05251-E014-427D-ADBB-9570212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27204-108D-48EC-A4D2-CF5479E3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DB9-CBFC-4193-915A-0858D20D2FD0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DB0F-A341-4C29-9AF5-757E21F65FE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AEB-16E4-40AB-AD3A-46A3D468C040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4EF-95A9-4BAD-ABE9-1EFAF8A09A0E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E76F-7785-41D9-8716-DF542FD781AD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4BF-BB00-4445-B80D-383565AF728F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E6C-76AC-4715-AD7C-31F69F227A1A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99DB-6522-4381-A8A9-368B83711E1B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BF1-322A-4F40-8E14-3D9B2F6F8233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5EAD-7F62-4611-AF3D-A2E5E17816A6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508-0551-42ED-9133-3B0A3A295504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FDC-0B87-4578-852D-9F797BD492B3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0BA-B3E8-49AF-B8E2-2ACF69A08D1D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F508-38AD-4D8E-A7B1-8962238E1E7E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644-D1C9-4102-88F5-697E5750FBD6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FE25-9047-44B3-B977-0BCF60854D4E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7B4-4EF4-4D8A-BDB0-07E23CDF15FB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6CF-1174-4440-A103-6702D8FCB97E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EE3-2410-44AE-BAF2-277EA147C70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6E9-7B69-4A6F-BD36-D19DBFB115BD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2F05-97AD-4981-BE2C-ADEF25171F63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FD0A-EB1F-4442-995C-4DDAADE87D73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DDD-D4B1-4B2C-B348-886C5E408B6F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A30-9623-47B4-895A-CD7B69EA01EA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11C-E651-4C2A-BFD9-4A29862BE5F7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84E8-195A-4D70-A3B4-2E6A87258A30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B05-5E7C-4F72-A26C-27C712F92AE6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425-C9EC-446B-8C5D-9436FA7D0B3B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945-63AE-4B02-A55B-3917B078F329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88C-0780-4361-9DFF-2FE806E27A30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E9ED-3672-47DA-A706-A194CA6469EA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E4F-A502-46A9-9077-0BD5B1076E70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5C7-E1D2-48A3-89C1-AE821EEAF2AC}" type="datetime">
              <a:rPr b="0" lang="en-US" sz="1200" spc="-1" strike="noStrike">
                <a:solidFill>
                  <a:srgbClr val="9f87b7"/>
                </a:solidFill>
                <a:latin typeface="Trebuchet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A94-F674-4801-8EBA-0CC1288D30E3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15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2: LECTURE: MEDICAL CARE OF THE CHILD SURVIVO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75834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s for a genital exa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4CE-135D-4418-B9CC-F095D78FA23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enital examin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ation is the same as for an adul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everything and ask permission before every step of the examin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ote fresh or healed scars, evidence of female genital mutilation, if pres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de-CH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gital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vaginal examin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NO speculum in pre-pubertal gir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A478-0CF2-4E6C-91F4-809825D3786D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enital examin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oys: examine the penis, testicles, perineum and anu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especially for injuries to the frenulum and prepu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 examinati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nal fissures or tea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 anal dilatation – indicative of anal penetration but also of constip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igital anal exa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F3A-527A-430D-8AEE-0BEEA58FB7C6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gnificance of Finding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hild survivors will have normal or non-specific find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health care provider does not have much experience in the genital exam of a child (even pediatricians do not have much experience with this!), normal/non-specific findings may be taken for abnorm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labial adhesions, hymenal bumps/mounds/tags and anal fissures can be found in a normal pediatric exam*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28B-F676-4D97-9E5B-3D85D7246897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gnificance of finding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interpr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Ex. Amount of hymenal tissue and size of vaginal orifice are NOT sensitive indicators of penet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scribing hymen tissu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o 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hrases such as ‘intact’ or ‘ruptured’ or ‘virginal’. Instead describe what injuries you see (ex. scars, tears) or if no evidence of injury, write ‘no evidence of injury’ -  you MUST also write “Absence of injury does not mean rape did not occur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617-7435-40DF-8729-B2CA8392EC3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orensic examin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simultaneously with physical ex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you will do and ask for cons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specimens only if able to be analyzed AND accepted in cou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ild presents &lt;72 hours after the incident, you can look for the presence of sperm (collect by just a swab, do not do a speculum exam for collect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264-2FA7-4831-BEC4-84C284AF0270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s, HIV, Hepatitis B and Tetanus – same prevention/treatment needs – but different dos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national protocols and use shortest/ most tolerated/easily administered course of treatment when possi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even pre-pubertal girls can get pregnant – give emergency contracep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DAD5-AFE9-467D-9F08-7759A0FECEB3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TI-WHO recommended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 based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norrhea: Ceftriaxone or Cefixi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amydia: Azithromycin or Erythromyc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philis: Benzathine benzylpenicill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ADCD-A537-47C3-A967-67A64BC178ED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P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 or age based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 (AZT) plus Lamivudine (3TC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rup or pill for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day for 28 da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ee WHO/UNHCR for dose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9118-B7AB-4FC0-BF0D-4B1B37CA687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sychosocial support*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non-offending, trusted caregiver who takes the child (and the situation) seriously can provide significant suppo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remove child from family care in order to provide treatment (unless it is done to protect from abuse or neglec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 aware that the child could be abandoned by his/her famil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er to specialists, if possi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possible, try to link the child and family to community-based suppo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C8B-6AEA-4F25-93DE-4B2E5E342DC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e a safe environmen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Who is present during the interview (be aware that the accompanying adult could be the perpetrator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Times New Roman"/>
              </a:rPr>
              <a:t>Ask the child who s/he wants present and respect her/his wish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have a moment with the child alone to ask who the child would like present for the interview and examin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1E62-E704-44B1-8F50-513C4F63738C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amily support*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761760" y="1752480"/>
            <a:ext cx="758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family of a child survivor will be disrupted after sexual violence occur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ccur even when perpetrator is not a member of the family or living in the househol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vivor and other siblings may be afraid of what is going to happen or feel guilty about what happened (especially if the perpetrator is a family member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to the family can also help support the chil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865-8783-4812-A2DC-B3EF297194B1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ollow-up ca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: it is possible that the child survivor will not or cannot return for follow-up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aximum information, care and support during the first visit, as it maybe the only visi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4CD-4C2C-411D-810C-4782C1D082D6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AKING PEP: follow-up 1 week, 6 weeks, 3 months, 6 month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T given PEP: follow-up 2 weeks and 3 month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A8A0-861A-4D6C-B8D4-41DC06971B70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ollow-up evalu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child’s mental and emotional status (treat or refer as neede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3960" indent="-273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for STIs (treat if necessar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3960" indent="-273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eck medication completion and with any on-going treatments, check for side-effects, adherence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3960" indent="-273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vice on VCT (same schedule as for adult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3960" indent="-273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vaginal infection persists – consider possibility of presence of a foreign body or continuing sexual ab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3960" indent="-273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C61A-AFED-4377-A094-83722C67E5C5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ollow-up evaluation*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0520" y="1143000"/>
            <a:ext cx="44197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hough a child may not have physical injuries or appear emotionally harmed, a child’s perception of his/her rape may change over tim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ture/long-term traum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survivors have increased risk of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ssive behavior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ession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functional peer relationship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self-esteem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sexual behavior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traumatic stress disorder,  and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ies in schoo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687920" y="1066680"/>
            <a:ext cx="40752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increased risk of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victims of abuse again, 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petrating abuse on other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follow-up of child survivors and referrals to mental health and psychosocial services are crucial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457200" y="617220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From Ann S. Botash, MD, “Child Abuse Evaluation &amp; Treatment for Medical Providers” SUNY Upstate Medica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6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1BE4-6353-44AF-A24D-16E6F09AB84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ral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1280" indent="-251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he child if s/he has severe injuries (stabilize firs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1280" indent="-251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ervices a survivor needs that your health facility cannot provide (ex. evaluation for fistula, surgery, fractures, psychiatric care, etc.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1280" indent="-251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treatment your facility does not have (PEP, VCT, etc.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1280" indent="-251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ervices – community groups, children’s group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1280" indent="-2512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A454-4CBF-4F20-AC65-0A0B4534C668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The End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8AC-11A5-4301-A099-865E68DAF848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e a safe environmen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 at ey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the child s/he has done nothing wrong and is not in trou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sking questions about neutral topics (school, friend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reative methods (games, story telling drawing) to help put young children at ease and facilitate commun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DD3-17E4-4BDD-BB36-5F426CEFDF39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e a safe environmen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ce a child to answer questions s/he does not want 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force the child to name the perpetrator (may be a family member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486-EFBE-448E-81BC-D95845B2204D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art with open-ended questions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were you told about coming here?”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ssure child that it’s okay to say “I don’t know”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 patient, go at the child’s pace, don’t interrupt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D45-5C2B-480A-A3D0-B4326BAE7022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istory continued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age-appropriate language and term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 asking leading or suggestive ques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9BE-1758-4949-B445-C1F1945BFC02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amination of a child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779040" y="1523520"/>
            <a:ext cx="75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suspect serious injuries – stabilize and refer early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there should be a support person or trained social worker whom the child trusts in the room with yo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what will happen during the examination – use appropriate langua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ay be useful to have a doll to demonstrate the procedures and positions (and NOT for use to obtain the histor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child the equipment (and allow the child to use these on the dol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D01-689E-4641-B72B-7528363F83A5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800" spc="-1" strike="noStrike">
                <a:solidFill>
                  <a:srgbClr val="000000"/>
                </a:solidFill>
                <a:latin typeface="Times New Roman"/>
              </a:rPr>
              <a:t>Examin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child to ask questions about things s/he doesn’t understand or is concerned about</a:t>
            </a: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6840" indent="-276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hild should never be examined against her/his will – regardless of a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6840" indent="-276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coerce, restrain or </a:t>
            </a:r>
            <a:r>
              <a:rPr b="1" lang="de-CH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a child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6840" indent="-276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A child may not be able to relax because of PAIN – consider simple pain relief (and wait for their effec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6840" indent="-276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4F5-F57E-478B-B34D-E3CBC4B20296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ead to toe examination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for an adul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history to guide your exa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ine for lacerations, ecchymoses, etc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examination of oral cav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ral penetration: examine hard and soft palate for bruising or petechia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injuries in the medical chart and include injury descriptions, measurements (use pictogram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AE93-D7EF-43C8-9C5B-8D44A2FB993A}" type="slidenum">
              <a:rPr b="0" lang="en-US" sz="1200" spc="-1" strike="noStrike">
                <a:solidFill>
                  <a:srgbClr val="6a2d97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00:27Z</dcterms:created>
  <dc:creator>mmarsh</dc:creator>
  <dc:description/>
  <dc:language>en-US</dc:language>
  <cp:lastModifiedBy>UNICEF</cp:lastModifiedBy>
  <dcterms:modified xsi:type="dcterms:W3CDTF">2010-10-21T18:28:04Z</dcterms:modified>
  <cp:revision>5</cp:revision>
  <dc:subject/>
  <dc:title>Module 15:</dc:title>
</cp:coreProperties>
</file>